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9.png" ContentType="image/png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4DB-A317-4E16-9F5D-C36395AA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0F2-9CE0-4525-A543-B359ED27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113-DA6F-4F78-8D2B-BAA2AAE9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232-266E-4FE5-BE25-D427B328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2FB-451D-4E66-B674-A2F60915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D39-272B-4632-B7D7-CB8ADACD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D24-C4A4-47EC-96E6-025369FD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617-9D74-4A39-AA56-EF1232F7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4F2-36DC-4B77-A0E2-43B92158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1EA-9876-403B-A045-CACBE823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BBB-958B-4573-8774-F8E0BF12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A21-F078-46FC-86CC-9D65764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7589-5E7C-47BB-9085-8D0A9B14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Egyptian Gods and Godd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By: Karisa Barkis and Hope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ope You Liked Our Present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1974600" cy="169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En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398160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ere are some gods we will be talking ab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un-Re- The sun god and god of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siris- The god of the living and the 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th- The god of wisdom, writing, and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is- The goddess of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rus- The sky god and god of king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ubis- The god who preformed the ceremonies of mummification and protected the cemet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thor- The goddesses of love, music, and da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mun- 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un- Re was the chief deity of the New Kingdom (from about 1539 B.C to 1070 B.C.) He was pictured as a human wearing a crown of two feathers. The famous temple of Karnak was dedicated to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6174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Osi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0512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siris represented rebirth after death. He ruled the afterlife judging all Egyptians after they died. He was shown as a mummy wearing a feathered crown and holding a farming tool in his arms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175896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is was the wife of Osiris and the mother Horus. Isis was a powerful magician. She was often pictured with the hieroglyphic symbol for “throne” on her h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35720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Th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 moon god, was the keeper of time and inventor of writing. He was drawn with the head of a bird. He held writing materials and wore full and crescent moons on two of his symb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1565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rus was the sky god and god of kingship. Horus in Egyptian means “he who is above”. His mother was Isis. He is one of the main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166536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33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at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752480"/>
            <a:ext cx="815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thor was the goddesses of love, music, and dancing. She also protected women. Hathor was most often pictured as a human with a circle representing the sun between two cow horns on her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1177920" cy="2776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nu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ubis is the god of the dead. He preformed the ceremonies of mummification. He was shown with the head of a jack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7859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58:44Z</dcterms:created>
  <dc:creator>Default</dc:creator>
  <dc:description/>
  <dc:language>en-US</dc:language>
  <cp:lastModifiedBy>Default</cp:lastModifiedBy>
  <dcterms:modified xsi:type="dcterms:W3CDTF">2009-01-16T17:47:52Z</dcterms:modified>
  <cp:revision>5</cp:revision>
  <dc:subject/>
  <dc:title> Egyptian Gods and Goddesses</dc:title>
</cp:coreProperties>
</file>